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903-577E-41CA-AECA-0EB2A750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50400" y="413064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AC6-3A57-44DE-9B70-FD674460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548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DDF-FD8D-4086-BC77-90790C91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060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44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5040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060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44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F18E-7237-4F3F-9F93-69627F15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AD94-182B-4210-9FF4-B1948CDC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1C1F-CA6F-4084-B6E2-E0B93C23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95AD-5413-4308-85CD-38C64FD2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D795-9DD0-44F8-91DF-BFD22EBE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8CC5-DF0B-4CBC-B500-900524F9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606C-01DC-4A8F-8EA3-47080C2D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11DB-04EA-4D80-80CD-C5FE9A9D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89B-7842-4935-9935-13B85374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548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3CB1-7E5B-4CA5-90AF-F4B4DAE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6D87-2826-485C-AB81-3978B45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50400" y="413064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CB88-A9DB-42CB-A4F1-33AAE10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548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2000-61AD-4E31-85FC-40894E15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4060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30440" y="198108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5040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4060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30440" y="4130640"/>
            <a:ext cx="2466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4579-55AB-4CEF-A0EA-D236177E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023-796D-4D3F-A327-8F7E3D38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D8C-0BDD-499F-B26C-8E2F779F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E75-7A8B-4158-8E7F-C16187D6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96F-0847-4ECF-9D43-0C8C9BEA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40E-4C49-423B-B0DB-00BBDFE0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5480" y="413064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19F-24EB-482E-9622-0A7E25BA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040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5480" y="1981080"/>
            <a:ext cx="373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0400" y="4130640"/>
            <a:ext cx="76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8A9-13E0-4354-9F4C-C5A9D023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22F4-4AA3-41C1-A2B8-1AAAC33313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50400" y="1981080"/>
            <a:ext cx="76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A92F-C525-454B-8F41-E9C4D39C9C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3520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роект сметы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департамента финанс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на 2011 – 2013 г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0-11-12T17:43:19Z</dcterms:modified>
  <cp:revision>21</cp:revision>
  <dc:subject/>
  <dc:title>PowerPoint Presentation</dc:title>
</cp:coreProperties>
</file>